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8D2-F2E4-4D9B-A4C2-EC5F1249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3E1-35F8-4DC9-98C9-50AF8AC9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85F-C390-4A6D-B3BE-606CD325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AC1-9792-498D-AE82-2DED3EFA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17B-F699-4F94-9DD2-DBB1F71A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418-C5BB-4557-94CE-25F164E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E4E-4421-4E7F-9294-391F2353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E6A-1CA3-4F93-B34F-46C06E29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79C-6690-4B2C-9EE9-30DB3F21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713-FFBB-45C9-9163-2E0BBB6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0DB-4132-4477-A673-449B371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5B0-097B-47BC-BC84-2828B59F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31A4-3067-4256-BF39-C1D79F9C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7467480" cy="122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23:45:29Z</dcterms:created>
  <dc:creator>Dean Abby</dc:creator>
  <dc:description/>
  <dc:language>en-US</dc:language>
  <cp:lastModifiedBy>Dean Abby</cp:lastModifiedBy>
  <dcterms:modified xsi:type="dcterms:W3CDTF">2003-03-16T00:34:21Z</dcterms:modified>
  <cp:revision>1</cp:revision>
  <dc:subject/>
  <dc:title>Slide 1</dc:title>
</cp:coreProperties>
</file>